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32B5-D686-4154-BD3B-31B443E13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7458-EE61-4207-AC70-93540390C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FBE4-BB05-4480-8C89-33B203F7E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03C6-70ED-4D31-B1EC-0BAB46A1E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C01C-009B-48FB-A8D6-17344FBA6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984F-1107-4300-9823-DAA36319B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5378-9CE1-40A7-81BB-08CBD7A7A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7CA9-3D5D-470C-97F0-45DA5B8FA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2684-67C8-4053-9E82-F09AFB1BB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C05D-C2DF-4073-85B6-43AE50C3E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0109-6AE2-4A7D-A589-1FED31DFB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C936-0A06-4A8F-BB2F-5B4C374A2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56D8-67BD-4F8D-8F4F-BB53AF960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7ACE-7477-4D5E-AEC7-253E46BF2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3CE7-A4FC-49AF-9C1C-524F99AD3C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460C-6B87-45F2-98BF-88E4E0040E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F1FA3-94A7-4F64-B90E-7E77EA397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876C-D6E5-412F-BFF7-DCC9A1779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ACA0-AECD-4569-A936-15D185F15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20C5-9637-4302-BA13-0CEABECE4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16EC-208E-4984-951A-C70069CEB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14B4-D885-485F-BCE7-AF6AFDDF7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40E0-ABD3-49C4-935E-AA8F68995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45A2-B098-4242-AF55-2E405514C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24120"/>
            <a:ext cx="4952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6FCC-BE1D-4EBD-9014-A3328D8D6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igh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chnology-B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8-1.jpg"/>
          <p:cNvPicPr/>
          <p:nvPr/>
        </p:nvPicPr>
        <p:blipFill>
          <a:blip r:embed="rId1"/>
          <a:stretch/>
        </p:blipFill>
        <p:spPr>
          <a:xfrm>
            <a:off x="2971800" y="37339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561D-46BC-46B6-BF0C-BF9476E22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ss in which individuals or groups take the initiative and responsibility for learning and manage their own learning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ajor advantage of computer-based training is that it can be initiated and controlled by the trai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8-10.jpg"/>
          <p:cNvPicPr/>
          <p:nvPr/>
        </p:nvPicPr>
        <p:blipFill>
          <a:blip r:embed="rId1"/>
          <a:stretch/>
        </p:blipFill>
        <p:spPr>
          <a:xfrm>
            <a:off x="2971800" y="388620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0C9E-21FF-474D-BE2B-4693C3335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t one’s own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what is relevant to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independent with less dependence on form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ccording to one’s own learning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earn wrong things or learn in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 time accessing and finding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time to gain SD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7F06-A88E-46E7-AC27-58A39079D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synchronous &amp; Synchronou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based training can be asynchronous or synchro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ynchronous 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-programmed and available to the trainee at any time and from an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online course or multimedi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ynchron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ve and requires trainees to be at their computer at a specific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g., “chat” session or live “webin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2A9A-4DDA-4DBE-994E-0FE2BE8C5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lectronic Performance Support System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PS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s an asynchronous system that provides information, advice, and learning experience on the job to improve perform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is only accessed when i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ly needed information is given; reduces information ov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high-turnover jobs or tasks that are difficult, infrequent and must be performed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bile technology applications increase use of E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5493-44C5-4D4C-9368-8998C3FFF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Video and Web  Conferenc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training using two-way television, satellite or web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multaneously training at multiple lo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 dissemination of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site facilitator can address challenges with personal attention for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8-14.jpg"/>
          <p:cNvPicPr/>
          <p:nvPr/>
        </p:nvPicPr>
        <p:blipFill>
          <a:blip r:embed="rId1"/>
          <a:stretch/>
        </p:blipFill>
        <p:spPr>
          <a:xfrm>
            <a:off x="5334120" y="251460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6B45-52BD-4B83-A29C-C6C2BE6D2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Video and Web Conferenc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technology has created new opportunities for training over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inars are seminars or workshops taking place over the web with option for interactiv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casts are live or recorded audio or video broadcasts over the internet generally one-wa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webinars and webcasts can be synchronous or 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834D-96B6-412F-A079-2205AEDF5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s just the medium for delivering training and still rely on good design to ensur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many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-the-job instructional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built into computer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sign factors also important and are highlight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52C7-F977-4812-BA96-AC3556F6E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the appeal, encourage practice, and facilitate discovery of patterns and relationships in the training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sim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rainees with hands-on training for a particular task as well as opportunities to practice and master knowledge and skills in an interactiv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Pl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program engaging and provide opportunity to experiment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B246-76FF-44E3-85BB-0955C38BF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nvolve dialogue and characters liven up abstract concepts and increase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tailoring instructional elements to meet trainee preferences 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the use of conversational language, rather than formal language, helps trainees feel more engaged in a conversation with the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B7BB-12E3-4A29-BF5C-652CF25AE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Inter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structor and other online participants through chat rooms, discussion boards decreases feelings of isolation and increases 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in increasing learning. Can range from simple prompts to more complex quizzes, reviews or interaction with virtual or actual coach/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principles are identified in Trainer’s Notebook 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98E9-B92A-4568-9EE5-31C7B6BC3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echnology-based training and traditional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different methods of technology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instructor-led and self-direc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give examples of asynchronous and synchronou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D556-8241-4416-A82F-C555EA97F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for train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ll the time (just-in-time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earner control over content, sequence and pa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pacing allows for progress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flexibility and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comfort with ow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at work or away fro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ravel time; greater geographical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D70F-337D-4E1D-B752-090E4749F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for organ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rainees receive the sam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rge numbers can be trained in a shor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ditional constraints around classrooms ar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 across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ck trainee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33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ful for lega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efficiencies and 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6D20-C556-447C-B559-A93D46D10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Technology-Based Training: Disadvantage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traine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Less interpersonal conta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Doesn’t support all learning sty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otential computer illiter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organiz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Resistance to tech-based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ost of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8-22.jpg"/>
          <p:cNvPicPr/>
          <p:nvPr/>
        </p:nvPicPr>
        <p:blipFill>
          <a:blip r:embed="rId1"/>
          <a:stretch/>
        </p:blipFill>
        <p:spPr>
          <a:xfrm>
            <a:off x="6746760" y="175248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0855-CE53-4E74-9B87-02D176C3A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How Effective is Tech-Based Training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e number of variables in determining effectiveness and inconclusive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chnology-based training not considered superior to traditional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declarative and procedur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s effective for learning complex material, soft skills, psychomotor skills, or team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motivation plays a significant role in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071D-5CD2-466F-AD43-9B9EA437B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model of learning emerging known a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 constructivis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hich emphasizes the learner and learning through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ergence of new learning technology that facilitates social constructivism in particular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 2.0 is a set of internet tools that enable sharing, creation of knowledge and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communities of practice and informal learning as discussed in Ch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A7A3-2542-40D5-8CD6-6095F34D5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pular Web 2.0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log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journal style websites that contain commentary and information on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iki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webpage or collection of web pages in which users share, contribute, and modify information on a topi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398E-96B2-4064-8E82-FA2B9AC38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dcast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hort audio or video recording that can be downloaded and played on a mobile device such as iPod or 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bile learning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ees access learning where and when they want to using an mp3, iPod, or smart phone in an “on-demand”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863C-9767-4C9F-87C6-EF89259F1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technology for learning continues to advance; yet demise of traditional methods not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o use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to blend it with traditional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raditional methods ar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swer lie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nt of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ig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DC4A-E2AD-4CA6-9A72-FB0A3ED7F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based training methods were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erve as a complement to off-the-job and on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s between Instructor Led and Self Directed training, and asynchronous and synchronous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BF80-281D-493E-BD53-62B73738E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involved in the design of technology based training were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and the relative effectiveness of the various method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2.0 learning tools and mobile learning and their facilitation of Social Constructivism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59AF-63B8-46CE-A828-6C84A7442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discuss computer-based training, e-learning, electronic performance support systems, and video and Web 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sign computer-based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advantages and disadvantage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effectivenes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uture of technology-based training and describe Web 2.0 tools and mobil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EC88-B331-4AC3-94A2-9F4E8D8D6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-based training is training that involves using technology to deliver courses (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t types of technology-based training have evolved as technology itself evol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8-4.jpg"/>
          <p:cNvPicPr/>
          <p:nvPr/>
        </p:nvPicPr>
        <p:blipFill>
          <a:blip r:embed="rId1"/>
          <a:stretch/>
        </p:blipFill>
        <p:spPr>
          <a:xfrm>
            <a:off x="5603760" y="1523880"/>
            <a:ext cx="35402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7223-30BD-496F-9FE1-E52D8580A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ypes of technology-based train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self-study with CD-Rom,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erformance sup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/Audio/Tele-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 or broadcast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17080" y="5749920"/>
            <a:ext cx="1976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8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990D-078E-4617-AEBA-C6FB743C8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echnology-Based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training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training that does not involve using technology to deliver learning (regardless of the instructor or learners use of technology in the class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86D9-000C-404C-94CF-C2DCDDC61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revalence of Technology-Based Training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echnology for training has increased In Canada over the past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zations have made major advances in using technology-based training as their primary sour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n Canada and the U.S. the use of learning technology represents 16% of all formal train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raining technology is becoming more popular albeit at a relatively slow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A0D1-C52E-4FC2-A3C9-BF0B0EA0F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uter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puter-based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that is delivered via the computer for the purpose of teaching job-relevant knowledg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lear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computer network technology such as the intranet or Internet to deliver information or instruction to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 is a specific type of computer based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A4F5-DBD2-4762-9698-6FD0A1ECC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or-L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methods that involve an instructor or facilitator who, in the case of technology-based training, leads, facilitates, or trains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egree of involvement of the instructor in ILT can vary from full control to advisory or re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8-9.jpg"/>
          <p:cNvPicPr/>
          <p:nvPr/>
        </p:nvPicPr>
        <p:blipFill>
          <a:blip r:embed="rId1"/>
          <a:stretch/>
        </p:blipFill>
        <p:spPr>
          <a:xfrm>
            <a:off x="2895480" y="3962520"/>
            <a:ext cx="341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23:27:20Z</dcterms:modified>
  <cp:revision>326</cp:revision>
  <dc:subject/>
  <dc:title>Chapter 8</dc:title>
</cp:coreProperties>
</file>